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ipdn102.wav" ContentType="audio/x-wav"/>
  <Override PartName="/ppt/media/zapbig0g.wav" ContentType="audio/x-wav"/>
  <Override PartName="/ppt/media/highchime.wav" ContentType="audio/x-wav"/>
  <Override PartName="/ppt/media/helicopter.wav" ContentType="audio/x-wav"/>
  <Override PartName="/ppt/media/jetflyby2.wav" ContentType="audio/x-wav"/>
  <Override PartName="/ppt/media/bserie06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690-AFAA-4A4E-92EB-BA83DC7C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910-87B3-448F-8ABC-4167964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CCA-FA88-4FFC-89CF-D878950C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3F2-DBD6-40FE-86AF-C756736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AC6-4AE9-40DE-AEFF-555C48DA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3C4-61FA-4ED7-9571-1E35DF2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405-D7AC-44B4-9581-C0CB5DC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520-C734-47F7-837C-C7C2313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770-6A4F-40F0-A728-341D8FF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BCD-512D-4498-9FDC-D4BEE4A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2EE-32E7-4A13-8A9A-D5FE87E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D3F-A09E-4DC3-82B5-74733E1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712-6059-46A0-9D1A-38DB2A11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dn102.wav"/><Relationship Id="rId3" Type="http://schemas.openxmlformats.org/officeDocument/2006/relationships/audio" Target="../media/highchime.wav"/><Relationship Id="rId4" Type="http://schemas.openxmlformats.org/officeDocument/2006/relationships/audio" Target="../media/helicopter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zapbig0g.wav"/><Relationship Id="rId25" Type="http://schemas.openxmlformats.org/officeDocument/2006/relationships/audio" Target="../media/fastcar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audio" Target="../media/fastcar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jetflyby2.wav"/><Relationship Id="rId27" Type="http://schemas.openxmlformats.org/officeDocument/2006/relationships/audio" Target="../media/zapbig0g.wav"/><Relationship Id="rId28" Type="http://schemas.openxmlformats.org/officeDocument/2006/relationships/audio" Target="../media/fastcar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audio" Target="../media/fastcar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44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45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5200" y="1149480"/>
                <a:ext cx="280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6140520" y="430056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87640" y="2770200"/>
                <a:ext cx="1552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84320" y="2793960"/>
                <a:ext cx="733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424560" y="4046400"/>
            <a:ext cx="160560" cy="160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021120" y="3430440"/>
                <a:ext cx="14716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700680" y="37576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186000" y="4124160"/>
                <a:ext cx="1144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166840" y="412272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6975360" y="349416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218040" y="4794120"/>
                <a:ext cx="10206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90880" y="481824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7250040" y="32497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168720" y="5477040"/>
                <a:ext cx="1144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139840" y="5467320"/>
                <a:ext cx="40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 flipV="1">
            <a:off x="4529160" y="1884240"/>
            <a:ext cx="4282920" cy="4152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365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366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17520" y="1149480"/>
                <a:ext cx="2755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6153120" y="29876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2943360" y="2790720"/>
                <a:ext cx="16509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127240" y="2793960"/>
                <a:ext cx="4478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6424560" y="35164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119320" y="345456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702480" y="403560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125800" y="4102200"/>
                <a:ext cx="407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6975360" y="45673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886040" y="4818240"/>
                <a:ext cx="858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7250040" y="50785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889280" y="5486400"/>
                <a:ext cx="852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5632560" y="1919160"/>
            <a:ext cx="2322360" cy="4421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003480" y="3436920"/>
                <a:ext cx="1546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78000" y="4141800"/>
                <a:ext cx="1265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03560" y="4816440"/>
                <a:ext cx="1193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059280" y="5492880"/>
                <a:ext cx="1298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686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687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225360" y="1149480"/>
                <a:ext cx="2940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"/>
          <p:cNvSpPr/>
          <p:nvPr/>
        </p:nvSpPr>
        <p:spPr>
          <a:xfrm>
            <a:off x="6153120" y="243216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2908440" y="2790720"/>
                <a:ext cx="1720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2146320" y="277488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6438960" y="27194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3" name=""/>
          <p:cNvSpPr/>
          <p:nvPr/>
        </p:nvSpPr>
        <p:spPr>
          <a:xfrm>
            <a:off x="6702480" y="29750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104920" y="4122720"/>
                <a:ext cx="449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6975360" y="324180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111400" y="4799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7250040" y="35020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2090880" y="5486400"/>
                <a:ext cx="447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5629320" y="1919160"/>
            <a:ext cx="3341520" cy="3256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2951280" y="3436920"/>
                <a:ext cx="16509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3025800" y="4141800"/>
                <a:ext cx="1370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68640" y="4816440"/>
                <a:ext cx="1263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3024360" y="5492880"/>
                <a:ext cx="13683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3230640" y="2908440"/>
                <a:ext cx="4204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747960" y="2901960"/>
                <a:ext cx="420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276720" y="3538440"/>
                <a:ext cx="420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3794040" y="3544920"/>
                <a:ext cx="420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3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1011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1012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217440" y="1177920"/>
                <a:ext cx="3306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7" name=""/>
          <p:cNvSpPr/>
          <p:nvPr/>
        </p:nvSpPr>
        <p:spPr>
          <a:xfrm>
            <a:off x="6151680" y="455148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948040" y="2832120"/>
                <a:ext cx="170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1922400" y="2793960"/>
                <a:ext cx="857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6437160" y="404496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8" name=""/>
          <p:cNvSpPr/>
          <p:nvPr/>
        </p:nvSpPr>
        <p:spPr>
          <a:xfrm>
            <a:off x="6689880" y="350532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2104920" y="4122720"/>
                <a:ext cx="449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0" name=""/>
          <p:cNvSpPr/>
          <p:nvPr/>
        </p:nvSpPr>
        <p:spPr>
          <a:xfrm>
            <a:off x="6962760" y="29894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2090880" y="481824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7250040" y="24289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109960" y="546732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2959200" y="3500280"/>
                <a:ext cx="161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3098880" y="4157640"/>
                <a:ext cx="13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3108240" y="4840200"/>
                <a:ext cx="13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7" name=""/>
              <p:cNvSpPr txBox="1"/>
              <p:nvPr/>
            </p:nvSpPr>
            <p:spPr>
              <a:xfrm>
                <a:off x="3071880" y="5508720"/>
                <a:ext cx="1374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8" name=""/>
          <p:cNvSpPr/>
          <p:nvPr/>
        </p:nvSpPr>
        <p:spPr>
          <a:xfrm flipV="1">
            <a:off x="5398920" y="1810800"/>
            <a:ext cx="2295720" cy="4443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5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3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0" y="14256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9, 13 – 4 #1 –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4/1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08T17:38:07Z</dcterms:modified>
  <cp:revision>121</cp:revision>
  <dc:subject/>
  <dc:title>Slide 1</dc:title>
</cp:coreProperties>
</file>